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F03-002C-4499-A790-889E4553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F22-3C58-4A0A-B914-4A5A338D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D9B-75C4-4514-9585-0ED28968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CB8-D58F-4148-BCE8-E46B60B1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E11D3-B754-4172-BDAF-6A49124110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09ABF-BD8F-4332-90B5-E4657023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24A66-5C50-4C50-8372-32B60822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E2087-C2D7-4F8E-A8F3-982820B8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04852-2E11-428C-9575-9524B7EE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D1DE1-5202-4753-B3D8-978B4533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A5BB3-DA5E-450A-98B7-17E069E6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A17-E348-4BB3-A938-ACF6D92E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9D4AD-94C7-4222-B1E8-C2141EDF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5A748-1803-4974-A6E0-B8A0359E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5C0F7-990D-4B77-8C89-BF8C7FB4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92626-4C59-4252-90E6-ED240937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6BF93-EE4D-4E90-8BB6-7F6BB7884A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96C-D18B-4032-BBD7-D6B6621B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911-B0A5-4806-A06D-DBF01CD4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F70-90D5-46D9-91C1-9E2D563F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AF8-56E1-446C-A1E1-3358595C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357-482F-4A85-B780-65715D3B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C19-42DE-409D-A5AE-356E4A6D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7D7-E788-47BF-B54F-3A343A29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b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333360"/>
            <a:ext cx="8353440" cy="1079640"/>
          </a:xfrm>
          <a:prstGeom prst="rect">
            <a:avLst/>
          </a:prstGeom>
          <a:solidFill>
            <a:srgbClr val="0000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400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1.09.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00000" y="6237360"/>
            <a:ext cx="48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chsen, Wellen und Zapfen                           Andrej 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88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7913-0547-4586-963C-E0C83A9D2E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b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125360"/>
            <a:ext cx="8353440" cy="1944720"/>
          </a:xfrm>
          <a:prstGeom prst="rect">
            <a:avLst/>
          </a:prstGeom>
          <a:solidFill>
            <a:srgbClr val="0000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1. September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FDE9-3716-4FEA-97CA-0C60167C83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chsen, Wellen und 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400500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wicklung und Konstr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drej 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chszapfen werden auf Biegung beanspru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lenzapfen werden auf Torsion bzw. Torsion und Biegung beanspru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zelzapfen (Spurzapfen, Kugelzapfen) werden auf Flächenpressung und zusätzlich auf Biegung beanspruch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288144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3236760" cy="144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02480" y="5372280"/>
            <a:ext cx="41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17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a) Achszapfen, b), c) und d) Wellenzap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Matek S.35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91C-9AE3-4A50-93A2-503BC1E26F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en und Entwer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ufgaben des Konstrukteurs s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leine Abmessungen anstr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uerbruchgefahr beseit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fache und kostensparende Fer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onstruktive Maßnahmen sind oft entscheidender als Verwendung von Werkstoffen höherer Festigkeit (z.B. Vermeidung von Kerbstell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F46-ED26-4FCD-826C-F85740C737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Gedrängte Bauweise: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leine Rad- und Lagerabstände anstreben, um kleine Biegemomente und Durchmesser zu erre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durch können Größe, Gewicht und Kosten der Gesamtkonstruktion verringert we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i vorgegebenen Lagerabständen sowie Torsions- und Biegemomenten können Achsen/ Wellen für den Entwurf genau berechnet we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91E-FF24-4D22-9DC8-C7F0E35F41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rbwirkung verm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 schärfer die Kerbform, umso größer die Spannungsspi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lenübergänge ohne Schulter festigkeitsmäßig am günstigsten, aufgeschrumpfte Naben von der Übergangsstelle etwas zurück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4508640"/>
            <a:ext cx="230364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7040" y="546732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4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Wellenübergang ohne Schu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626-FDE4-4B4B-BE99-D3EB77D406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abgesetzten Zapfen das Verhältni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D/d = 1,4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überschreiten (Schwächung der Achse/ W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gänge gut runden mi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 = d/20….d/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od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1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direkt an den Wellenschultern sitzenden Wälzlagern die Rundungsradien beachte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TB 14-1/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l- und Passfedernuten bei Umlaufbiegung nicht bis an die Übergänge heranführen (erhöhte Dauerbruchgefahr durch die Kerbwirkungen aus beiden Querschnittsveränder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4869000"/>
            <a:ext cx="2784600" cy="1373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24360" y="5445000"/>
            <a:ext cx="17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3a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Zapfenüberg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Matek S.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2CD-8BE0-4700-ADAC-F805B213B0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äder und Scheiben gegen axiales Verschieben durch Distanzscheiben oder –hülsen, Stellringe oder Wellenschultern s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cherungsringe an der Welle vermeiden, möglichst nur an den Wellenenden anord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ten kürzer als Naben ausführen, damit Distanzhülsen einwandfrei an der Nabe anlieg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3456000" cy="1386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263840" y="4869000"/>
            <a:ext cx="2751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estlegen von Rädern bz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ei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durch Distanzhüls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) durch Wellenschulte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1E8-03D2-4DA4-9CCC-0687355D13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Möglichkeit Fertigwellen/Achsen verwenden, um die Fertigungskosten zu sp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ststehende Achsen gegenüber umlaufenden bevorzugen wegen günstiger Beanspruchungsverhält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ger dicht an Scheiben und Räder setzen, um die Durchbiegung klein zu hal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C8F-D3D7-4230-8C68-3794962FA6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ie Steifigkeit der Welle/ Achse konstruktiv zu verbessern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öglichst kurze Abmaße (geringere Biegemo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nge Achsen/Wellen wenn möglich zwischenlagern (gleichmäßige Verteilung der Biegemomente auf der Welle/Ach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ohlachse/-welle bevorzugen wegen deutlich höheren Widerstandsmoments bei gleichem Querschnitt als             Vollachse/-w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Vorteil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Gewichtserspar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achteil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höhere Fertigungskost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F25-5900-4DE7-A671-1263957A15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e Führung der Achsen und Wellen durch Ansatzflächen der Lagerzapfen oder Stellringe sich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sreichend Spiel vorsehen, um ein Verspannen bei Wärmedehnung zu vermeiden oder Einbauungenauigkeiten auszugleic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3600360" cy="1009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3600360" cy="108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71640" y="5229360"/>
            <a:ext cx="3600360" cy="100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3280" y="5516640"/>
            <a:ext cx="332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6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Axiale Führung von Achsen und Well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durch Wellenschultern, b) durch Stellring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) bei mehrfacher Lag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808-ADC6-4B9E-A911-909FC4318F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gemein ist eine hohe kritische Drehzahl anzustreben, mindestens 10-20% über der Betriebsdreh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he kritische Drehzahl wird erreicht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 möglichst dicht an umlaufende Räder usw. setzen, um die Durchbiegung klein zu 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langen Wellen auf Verdrehung (Torsion) a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len mit umlaufenden Teilen  bei hohen Drehzahlen sorgfältig auswuchten (hohe Fliehkräf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laufende Scheiben, Räder usw. leicht ba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kleines Massenträgheitsmoment und geringere Durchbiegung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C93-8D4C-45B9-9537-9140423AB2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haltsverzeich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unktion und Wirk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staltungsgrundsät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rkstoffe und Halbze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re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CA5-16B8-465E-B429-3304579C85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Torsionsbeanspr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rch die Verformung in der Welle gespeicherte Formänderungsarbeit erzeugt Schwingungen bei Drehmomentenschwank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 großer Verdrehwinkel ergibt eine niedrige kritische Dreh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zul. Verdrehwinkel 0,25°- 0,5° je m Wellenlän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2158920" cy="172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404880" y="5540400"/>
            <a:ext cx="234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4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lastische Verform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Torsionsbeanspruchu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A45-9F88-4065-A97B-52B4011AAC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Biegebeanspr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biegung und Neigung werden bestimmt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t, Größe und Lage der hierfür maßgebende Kräf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astische Eigenschaften des Wellen- oder Achsenwerkstoff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ul. Neigung/ Durchbiegung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1-5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1640" y="4653000"/>
            <a:ext cx="3313080" cy="1440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340160" y="5540400"/>
            <a:ext cx="234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5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lastische Verform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Biegebeanspru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B1B-0D87-42AD-B7C5-693BD85DE9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ingungen, Resona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Körper z.B. Federstab wird durch kurzzeitig wirkende Kraft elastisch verfor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Entlastung wird der Körper durch gleichgroße Rückstellkraft in Biegeschwingungen v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Schwingungsfrequenz ist umso größer, je größer die Elastizität und je kleiner die Masse des Körpers (Eigenfrequenz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CD0-87AF-4227-A34F-B47F4EBFA5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ingungen, Resona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Überlagerung der Erregerfrequenz mit der Eigenfrequenz (Resonanz) werden die Schwingungsausschläge nach jedem Anstoß größer, so dass u.U. ein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ruc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intret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Drehschwingungen kann es zu gleichen Erscheinungen 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ßnahmen: Welle und umlaufende Teile auswuchten, Steifigkeit erhöh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80E-951E-4A1C-8FF8-D5F68DCCBF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rkstoffe und Halbze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hsen und Wellen können ohne Nacharbeit aus geraden blanken Rundstäben hergestellt werden (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-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kstoffe und Halbzeuge sollen aus wirtschaftlichen Gründen nicht hochwertiger als erforderlich gewäh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normal beanspruchte Achsen und Wellen können unlegierte Baustähle gewäh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höher beanspruchten Wellen sind Vergütungsstähle und bei Beanspruchung auf Verschleiß Einsatzstähle vorzuziehe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TB 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DFF-44CF-4D7E-8264-3C95815F7E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rechn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überschlägig ermittelten Durchmess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d`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ind sinnvoll auf den Entwurfsdurchmess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zur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Abmessungen der dazugehörigen Normteile sind zu berücksich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chließende Durchführung der Sicherheitsnach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71640" y="3716280"/>
            <a:ext cx="2160360" cy="2233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016000" cy="2233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97760" y="5445000"/>
            <a:ext cx="179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2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rechnerisc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urchmes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FA2-2BBF-42FA-BEE2-80A4EC0B99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rechnungsform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mittlung der Achsendurchmess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1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mittlung der Wellendurchmess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5-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cherheitsnachweis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19-20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 11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Torsionsbeanspruchung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21-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Biegebeanspruchung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24-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egekritische Drehzahl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41-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drehkritische Drehzah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(FS 11/ 44-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F1C-8BC4-447E-9E3C-B17F7DA851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Qu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oloff/Matek: Maschinenelemente, Lehrbuch und Tabellenbuch; Vieweg Verlag, 19. Auflage, 2009, ISBN 978-3-8348-0689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oloff/Matek: Maschinenelemente, Formelsammlung; Vieweg Verlag, 9. Auflage, 2008, ISBN 978-3-8348-0534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fred Böge: Handbuch Maschinenbau; Vieweg Verlag, 18. Auflage, 2007, ISBN 978-3-8085-172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bellenbuch Metall; Europa Lehrmittel Verlag, 44. Auflage, 2008, ISBN 978-3-8085-172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chkunde Metall; Europa Lehrmittel Verlag, 53. Auflage, 1999,    ISBN 3-8085-1153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abendblatt.de/ratgeber/wissen/article947506/Die-Schwachstelle-des-IC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A77-538F-4716-8774-9251EAABB3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inl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chsen, Wellen und Zapfen begegnet man                häufig im Beruf und im Alltag (Autos, Fahrräder, Werkzeugmaschinen usw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s gibt unterschiedliche Bauarten und Größ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beanspruchung kann zu schwerwiegenden Folgen fü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5291280" cy="63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553-DA95-451F-A12E-BBF9ACE74B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i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ntwurf und Gestaltung der Achsen/Wellen anhand der Grundlagenkennt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mensionierung der Achsen/Wellen durch Berechn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icherheitsnachweis der ermittelten Dimensionier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40A-28F7-45D9-8CE1-C4F4C43C37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Ach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5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chse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abförmige Maschinenelemente zum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Trag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Lager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drehbaren Bauteilen (z.B. Laufräder, Seilroll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anspruchung auf Biegung durch Querkräf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5516640"/>
            <a:ext cx="758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11-1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chse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a) feststehende Achse, b) umlaufende Achse mit Achszapfe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 Matek S.3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9A2-F7F2-41D8-AB2B-C0E5CFE582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chsen: Bau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773360"/>
            <a:ext cx="54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eststehende Achs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rd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ruhe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ode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hwelle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auf Biegung beansprucht, die Maschinenteile (z.B. Seilrollen, Riemenscheiben) drehen sich lose auf der Ach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or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öhere Tragfähigkeit als bei umlaufenden Achsen gleicher Größ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005360"/>
            <a:ext cx="532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Umlaufende Achs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rd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chsel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auf Biegung beansprucht, die Maschinenteile sitzen fest auf der Ach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or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facherer Ein- und Ausbau sowie leichtere Wartung der L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Nach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eringere Tragfäh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33360" cy="1973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160360" cy="18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A9B-F4AB-409F-A627-61961F3D9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W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elle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abförmige Maschinenelemente, die z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Weiterleiten von Drehbewegungen und Drehmomen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o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Lager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rotierenden Teilen verwend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anspruchung auf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r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zusätzlich auf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eg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3379680" cy="216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5661000"/>
            <a:ext cx="779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1c: Well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mit Wellenzapfe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 Matek S.3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A97-BE0E-4541-A541-53E7D69033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llen: Bau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252960" cy="115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92720" y="3357720"/>
            <a:ext cx="3235320" cy="1126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92720" y="4797360"/>
            <a:ext cx="3236760" cy="107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989000"/>
            <a:ext cx="504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tarre Well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m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Übertragen der Drehbewegungen auf die Zahnräder, Riemenscheiben, Kupplungen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lenkwellen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zum Verbinden von nicht fluchtenden, in der Lage veränderlichen Wellenteilen mit großen Abständen            (z.B. Kraftfahrzeuge, Werkzeugmasch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egsame Wellen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zum Antrieb ortsveränderlicher Maschinen mit kleiner Leistung (z.B. Handschleifmasch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C18-A23F-47AD-A1FF-65998C4B60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417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apfen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nd die zum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Lager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ist abgesetz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chsen- und Wellenend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ch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inzelel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.B. Spurzapfen, Kurbelzapfen)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07980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24240" y="4724280"/>
            <a:ext cx="22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: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apfenar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U Fachkunde Metall S. 4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834-30AB-49A2-A77F-5B71688C9F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38:17Z</dcterms:created>
  <dc:creator>Berg</dc:creator>
  <dc:description/>
  <dc:language>en-US</dc:language>
  <cp:lastModifiedBy>siow0380</cp:lastModifiedBy>
  <dcterms:modified xsi:type="dcterms:W3CDTF">2010-09-18T14:21:40Z</dcterms:modified>
  <cp:revision>203</cp:revision>
  <dc:subject/>
  <dc:title>PowerPoint Presentation</dc:title>
</cp:coreProperties>
</file>